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1D5-5995-4DA2-9EA2-6AC22F02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E9F-2722-4E30-9ADD-A3FFBF92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DC3-11E0-46F5-BC05-135B45A3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030-82FF-4D1F-97DF-C247CDEF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DF6D-E46F-4657-94D0-8E7C125A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8271-C566-4565-BC50-E3F993C1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C70E-8569-4141-9427-B3C3FD99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553D-6AAB-4441-8E51-BB3CB4A7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B678-5941-4FDA-8748-C3FC4663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02C-3C7D-4362-A09C-0D249A0D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1670-8CD3-4261-BE7A-1D793B1C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1F0-05EF-40F8-95B1-A0D77049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E36B-2896-498A-B4AE-81DC7F7D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C90D-D21A-4A19-A5E1-EB7686D4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C241-C595-4037-A0C3-0A3167A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0C24-9762-4019-AD7C-B7DF95DA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293A-3CFB-411F-81ED-594AA6CF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7FF-F555-488C-AAC4-5C8D122E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A62-D2E0-4993-BDAD-927A0608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6B2-092B-44AB-B453-9C115A86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98F-31B6-46FC-B09E-2DBC8EF3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814-DEC8-4160-B4F9-6B361CB9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42D-C7EE-412C-BB53-AEB8EB46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032-01F0-428B-A3FB-B2C13E01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742E-0FE1-4DCB-ACB2-01670D2B7B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6F61-CCED-4BC1-BC10-E5C7461491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Vocabular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Dy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scend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ing up , or ris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umber was ascen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3886200"/>
            <a:ext cx="1676520" cy="2362320"/>
          </a:xfrm>
          <a:prstGeom prst="upArrow">
            <a:avLst>
              <a:gd name="adj1" fmla="val 50000"/>
              <a:gd name="adj2" fmla="val 3522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escend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ering, or loo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umber was descen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276720"/>
            <a:ext cx="1523880" cy="2743200"/>
          </a:xfrm>
          <a:prstGeom prst="downArrow">
            <a:avLst>
              <a:gd name="adj1" fmla="val 50000"/>
              <a:gd name="adj2" fmla="val 450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stima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aring, or rou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1 estimated to 2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Flashcard of a math symbol for Approximately Equal To"/>
          <p:cNvPicPr/>
          <p:nvPr/>
        </p:nvPicPr>
        <p:blipFill>
          <a:blip r:embed="rId2"/>
          <a:stretch/>
        </p:blipFill>
        <p:spPr>
          <a:xfrm>
            <a:off x="2438280" y="3352680"/>
            <a:ext cx="25815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9:00:03Z</dcterms:created>
  <dc:creator>dylan.lynch</dc:creator>
  <dc:description/>
  <dc:language>en-US</dc:language>
  <cp:lastModifiedBy>dylan.lynch</cp:lastModifiedBy>
  <dcterms:modified xsi:type="dcterms:W3CDTF">2010-11-23T19:16:06Z</dcterms:modified>
  <cp:revision>2</cp:revision>
  <dc:subject/>
  <dc:title>Vocabulary</dc:title>
</cp:coreProperties>
</file>